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EE07-1AC5-4B3D-8F63-92A9BF85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72BA-B713-4D55-9E28-37D12013C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A003-7574-4E70-B1D1-36AF7ADD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0408-780D-42CA-9305-931D51E34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B5A8-D16E-41FC-96D8-1B7F84CF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8BCC-69E3-4557-9B04-819EAD03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CC24-7E42-429C-A483-B6EA2E467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5621-DE18-448B-A8B6-56A6ED73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D829-813F-4B24-842B-99310671C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A3B-300F-449C-B412-5416EC5BD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C5EA-7CA5-4C71-8DE6-27FF1FD80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ABA-E455-4C9A-AE6A-3070A119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FD0C-62E2-4090-BBB5-47F478287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BEDA-BF55-4089-A1BE-3DBE2477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892A-B33F-46A0-A6D2-6ECD60CC0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77C3-A474-4087-8E3B-FFCD9743C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64C4-9D81-4628-BFCF-8983EA67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6085-59EC-4002-B452-98C54EAD0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813B-DD4C-4D7E-BF30-4F0ACE78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8280-17A6-45E9-9DC7-440E9F50E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AD1B-6BE1-486D-9E13-2170D51CE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3580-DCC6-4569-9CF3-E014B481B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5FCB-D5BA-4D62-89B2-1E6E5CEC8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9C2A-B876-4FB9-A779-01AF9D7F9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F192-B7EF-4AB4-BF9A-58E7E1B43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FE29-B5CF-4A15-BD75-A12B19A4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87B0-1EB8-4FC1-B65C-544C08CA9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D41C-B4C5-43EC-B735-9BA8194B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21FB-B592-4FB1-8531-67F47FEBD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3E3E-A002-4136-BC34-8AB6EC92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BAA2-CA91-4B7A-82EB-43DB05E76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C029-4DB0-44AF-83A3-E343B72E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2D7F-47B9-4445-8916-36E08F629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175F-B964-4966-BEEE-55CA9F3EB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28D-E17E-49EC-BE3F-C0625E40A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y haven’t used it yet because no one was went and physically taken an inventory of the expenses to see what has been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8BA-D914-47B6-82FE-4006C6DE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210-A29E-475D-ABEF-43F47A5A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8CC-332B-4E81-A393-EBE0821F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A6F-BDCD-4645-B77E-6CA1EDFB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D71-526A-4111-9186-1D2A6107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217-7279-4333-81D6-A1D0D2DD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26C-B0EB-4833-8DDD-F7434E54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16B-9927-489E-97A5-AA283647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F84-F8AA-455D-B588-E10CDDF3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93B-3007-4400-BC63-5B2D761C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60A-90EB-4221-8B35-364FEF99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2F0-4531-4073-B96F-76856EB2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7DCE-EADF-4306-A27F-BD65DA64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F3M Ac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– Completing the Accounting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xpense: What Should the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Balance B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570200" cy="32274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"/>
          <p:cNvGrpSpPr/>
          <p:nvPr/>
        </p:nvGrpSpPr>
        <p:grpSpPr>
          <a:xfrm>
            <a:off x="5029200" y="3733920"/>
            <a:ext cx="3648240" cy="1076040"/>
            <a:chOff x="5029200" y="3733920"/>
            <a:chExt cx="3648240" cy="1076040"/>
          </a:xfrm>
        </p:grpSpPr>
        <p:sp>
          <p:nvSpPr>
            <p:cNvPr id="88" name="Rectangle 5"/>
            <p:cNvSpPr/>
            <p:nvPr/>
          </p:nvSpPr>
          <p:spPr>
            <a:xfrm>
              <a:off x="5915160" y="3733920"/>
              <a:ext cx="276228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What the balance should 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029200" y="3814560"/>
              <a:ext cx="914400" cy="25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7"/>
          <p:cNvSpPr/>
          <p:nvPr/>
        </p:nvSpPr>
        <p:spPr>
          <a:xfrm>
            <a:off x="1066680" y="5270400"/>
            <a:ext cx="7807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hat the balance “should be” is equal to the amount of supplies “used up” during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Adjustment Would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570560" cy="32227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4876920" y="3962520"/>
            <a:ext cx="3681360" cy="1076040"/>
            <a:chOff x="4876920" y="3962520"/>
            <a:chExt cx="3681360" cy="1076040"/>
          </a:xfrm>
        </p:grpSpPr>
        <p:sp>
          <p:nvSpPr>
            <p:cNvPr id="94" name="Rectangle 5"/>
            <p:cNvSpPr/>
            <p:nvPr/>
          </p:nvSpPr>
          <p:spPr>
            <a:xfrm>
              <a:off x="5762880" y="3962520"/>
              <a:ext cx="279540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The required adju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4876920" y="402588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14400" y="419112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adjusting entry as it would appear in the general jour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at Looks Like in the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0" b="59974"/>
          <a:stretch/>
        </p:blipFill>
        <p:spPr>
          <a:xfrm>
            <a:off x="914400" y="1905120"/>
            <a:ext cx="776916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92240" y="508968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95280" y="1166760"/>
            <a:ext cx="7085160" cy="5691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5002200" y="3335400"/>
            <a:ext cx="414180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Prepaid Insurance balance shows the total cost of insurance bought in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#2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id Expe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Bal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570560" cy="313344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4"/>
          <p:cNvGrpSpPr/>
          <p:nvPr/>
        </p:nvGrpSpPr>
        <p:grpSpPr>
          <a:xfrm>
            <a:off x="5181480" y="2971800"/>
            <a:ext cx="3394080" cy="1076400"/>
            <a:chOff x="5181480" y="2971800"/>
            <a:chExt cx="3394080" cy="1076400"/>
          </a:xfrm>
        </p:grpSpPr>
        <p:sp>
          <p:nvSpPr>
            <p:cNvPr id="106" name="Rectangle 5"/>
            <p:cNvSpPr/>
            <p:nvPr/>
          </p:nvSpPr>
          <p:spPr>
            <a:xfrm>
              <a:off x="6067440" y="2971800"/>
              <a:ext cx="25081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What the balance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181480" y="303516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the Balance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70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5146560" y="3375000"/>
            <a:ext cx="3648240" cy="1076400"/>
            <a:chOff x="5146560" y="3375000"/>
            <a:chExt cx="3648240" cy="1076400"/>
          </a:xfrm>
        </p:grpSpPr>
        <p:sp>
          <p:nvSpPr>
            <p:cNvPr id="111" name="Rectangle 5"/>
            <p:cNvSpPr/>
            <p:nvPr/>
          </p:nvSpPr>
          <p:spPr>
            <a:xfrm>
              <a:off x="6032520" y="3375000"/>
              <a:ext cx="276228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What the balance should 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146560" y="345600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7"/>
          <p:cNvSpPr/>
          <p:nvPr/>
        </p:nvSpPr>
        <p:spPr>
          <a:xfrm>
            <a:off x="1092240" y="4792680"/>
            <a:ext cx="7807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hat the balance “should be” is determined from someone calculating the portion of the insurance policy that is “unexpired” or “not  used up yet, but paid f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you Get $120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urance policy was purchased on Septembe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one year.  The fiscal period expires Dec. 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127160" y="3780000"/>
            <a:ext cx="7183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As of Dec. 31, how many months of insurance have been used 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- 4 months have been u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73160" y="556272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ach month co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$1800 / 12mo. = $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706640" y="556272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4 months have been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$150*4 = $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886200" y="56386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4570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4"/>
          <p:cNvGrpSpPr/>
          <p:nvPr/>
        </p:nvGrpSpPr>
        <p:grpSpPr>
          <a:xfrm>
            <a:off x="3962520" y="4343400"/>
            <a:ext cx="3405240" cy="2079360"/>
            <a:chOff x="3962520" y="4343400"/>
            <a:chExt cx="3405240" cy="2079360"/>
          </a:xfrm>
        </p:grpSpPr>
        <p:sp>
          <p:nvSpPr>
            <p:cNvPr id="123" name="Rectangle 5"/>
            <p:cNvSpPr/>
            <p:nvPr/>
          </p:nvSpPr>
          <p:spPr>
            <a:xfrm>
              <a:off x="3962520" y="5261040"/>
              <a:ext cx="340524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The required adju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6" descr=""/>
            <p:cNvPicPr/>
            <p:nvPr/>
          </p:nvPicPr>
          <p:blipFill>
            <a:blip r:embed="rId2"/>
            <a:srcRect l="0" t="-34700" r="0" b="46884"/>
            <a:stretch/>
          </p:blipFill>
          <p:spPr>
            <a:xfrm rot="16200000">
              <a:off x="4497480" y="4562280"/>
              <a:ext cx="91440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Your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ew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0560" cy="32274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4"/>
          <p:cNvGrpSpPr/>
          <p:nvPr/>
        </p:nvGrpSpPr>
        <p:grpSpPr>
          <a:xfrm>
            <a:off x="5181480" y="2743200"/>
            <a:ext cx="3394080" cy="1076400"/>
            <a:chOff x="5181480" y="2743200"/>
            <a:chExt cx="3394080" cy="1076400"/>
          </a:xfrm>
        </p:grpSpPr>
        <p:sp>
          <p:nvSpPr>
            <p:cNvPr id="128" name="Rectangle 5"/>
            <p:cNvSpPr/>
            <p:nvPr/>
          </p:nvSpPr>
          <p:spPr>
            <a:xfrm>
              <a:off x="6067440" y="2743200"/>
              <a:ext cx="25081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What the balance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181480" y="280656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7"/>
          <p:cNvSpPr/>
          <p:nvPr/>
        </p:nvSpPr>
        <p:spPr>
          <a:xfrm>
            <a:off x="1066680" y="4572000"/>
            <a:ext cx="78073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income statement account related to Prepaid Insurance is shown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90720" y="5943600"/>
            <a:ext cx="78073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accounting clerk has not used this account during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ense: What Should the Balance Be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570200" cy="3227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4"/>
          <p:cNvGrpSpPr/>
          <p:nvPr/>
        </p:nvGrpSpPr>
        <p:grpSpPr>
          <a:xfrm>
            <a:off x="5105520" y="4114800"/>
            <a:ext cx="3647520" cy="1076400"/>
            <a:chOff x="5105520" y="4114800"/>
            <a:chExt cx="3647520" cy="1076400"/>
          </a:xfrm>
        </p:grpSpPr>
        <p:sp>
          <p:nvSpPr>
            <p:cNvPr id="135" name="Rectangle 5"/>
            <p:cNvSpPr/>
            <p:nvPr/>
          </p:nvSpPr>
          <p:spPr>
            <a:xfrm>
              <a:off x="5991120" y="4114800"/>
              <a:ext cx="27619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What the balance should 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105520" y="4195800"/>
              <a:ext cx="91404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7"/>
          <p:cNvSpPr/>
          <p:nvPr/>
        </p:nvSpPr>
        <p:spPr>
          <a:xfrm>
            <a:off x="1092240" y="4897440"/>
            <a:ext cx="7807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hat the balance “should be” is the amount of the insurance policy that has expired at year’s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" dur="1" fill="hold"/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The Adjust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nts need to ensure that the statements they produc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, Accurate, 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85800" y="3962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304812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ecessary to en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s are brought up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late transactions are take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alculations are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accounting standards have been compli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807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e Adjustment Should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570200" cy="32274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4"/>
          <p:cNvGrpSpPr/>
          <p:nvPr/>
        </p:nvGrpSpPr>
        <p:grpSpPr>
          <a:xfrm>
            <a:off x="4800600" y="3809880"/>
            <a:ext cx="3681360" cy="1076040"/>
            <a:chOff x="4800600" y="3809880"/>
            <a:chExt cx="3681360" cy="1076040"/>
          </a:xfrm>
        </p:grpSpPr>
        <p:sp>
          <p:nvSpPr>
            <p:cNvPr id="141" name="Rectangle 5"/>
            <p:cNvSpPr/>
            <p:nvPr/>
          </p:nvSpPr>
          <p:spPr>
            <a:xfrm>
              <a:off x="5686560" y="3809880"/>
              <a:ext cx="279540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The required adju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4800600" y="387324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01320"/>
            <a:ext cx="75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t Looks Like in the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rcRect l="0" t="0" r="0" b="38507"/>
          <a:stretch/>
        </p:blipFill>
        <p:spPr>
          <a:xfrm>
            <a:off x="762120" y="1752480"/>
            <a:ext cx="7769160" cy="2760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838080" y="525780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adjusting entry for insurance as it would appear in the general jour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092240" y="508968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#3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 Arriving Invo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37360" cy="5257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5334120" y="4419720"/>
            <a:ext cx="4141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Accounts Payable balance does not include two invoices that arrived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late invoices have arri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212 for the Telephone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315 for the Utilities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Bal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570200" cy="31338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914400" y="518148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ittle analysis is needed for this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570200" cy="31338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990720" y="525780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imply enter the late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0200" cy="3133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990720" y="487692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imply enter the late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the Balance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570200" cy="31338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914400" y="502920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nd calculate the adjusted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nse: What is the Bal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435480" y="1676520"/>
            <a:ext cx="38764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435480" y="1676520"/>
            <a:ext cx="38764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course of the fiscal period, things are allowed to get out of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entries get everything up-to-date and accurat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llowed to go inaccura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time, money,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The Adjust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at Should the Balance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3497400" y="1752480"/>
            <a:ext cx="38145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at Looks Like in the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762120" y="1676520"/>
            <a:ext cx="7769160" cy="41176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838080" y="571176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adjusting entry for late invoices as it would appear in the general jou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191120" y="2590920"/>
            <a:ext cx="47242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justing entries have brought balance sheet accounts up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ummar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055520" y="189000"/>
            <a:ext cx="6694200" cy="642600"/>
            <a:chOff x="1055520" y="189000"/>
            <a:chExt cx="6694200" cy="642600"/>
          </a:xfrm>
        </p:grpSpPr>
        <p:sp>
          <p:nvSpPr>
            <p:cNvPr id="175" name="Text Box 5"/>
            <p:cNvSpPr/>
            <p:nvPr/>
          </p:nvSpPr>
          <p:spPr>
            <a:xfrm>
              <a:off x="1055520" y="189000"/>
              <a:ext cx="650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Arial"/>
                </a:rPr>
                <a:t>Adjusting Entries—Summar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7267320" y="40608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1546200" y="2279520"/>
            <a:ext cx="2001960" cy="1373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1546200" y="3683160"/>
            <a:ext cx="2001960" cy="137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1546200" y="5073480"/>
            <a:ext cx="2001960" cy="1373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1461960" y="19890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228600" y="5791320"/>
            <a:ext cx="8458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nd have recorded expenses in related accounts on the 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ummar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1068480" y="219240"/>
            <a:ext cx="6694560" cy="642600"/>
            <a:chOff x="1068480" y="219240"/>
            <a:chExt cx="6694560" cy="642600"/>
          </a:xfrm>
        </p:grpSpPr>
        <p:sp>
          <p:nvSpPr>
            <p:cNvPr id="184" name="Text Box 5"/>
            <p:cNvSpPr/>
            <p:nvPr/>
          </p:nvSpPr>
          <p:spPr>
            <a:xfrm>
              <a:off x="1068480" y="219240"/>
              <a:ext cx="650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Arial"/>
                </a:rPr>
                <a:t>Adjusting Entries—Summar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>
              <a:off x="7280280" y="43632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2001960" cy="1373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001960" cy="1373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2001960" cy="1373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1526760" y="16002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4"/>
          <a:stretch/>
        </p:blipFill>
        <p:spPr>
          <a:xfrm>
            <a:off x="6858000" y="2209680"/>
            <a:ext cx="2093760" cy="137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2"/>
          <p:cNvSpPr/>
          <p:nvPr/>
        </p:nvSpPr>
        <p:spPr>
          <a:xfrm>
            <a:off x="5335560" y="160020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3" descr=""/>
          <p:cNvPicPr/>
          <p:nvPr/>
        </p:nvPicPr>
        <p:blipFill>
          <a:blip r:embed="rId5"/>
          <a:stretch/>
        </p:blipFill>
        <p:spPr>
          <a:xfrm>
            <a:off x="4876920" y="2209680"/>
            <a:ext cx="2093760" cy="137340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14"/>
          <p:cNvGrpSpPr/>
          <p:nvPr/>
        </p:nvGrpSpPr>
        <p:grpSpPr>
          <a:xfrm>
            <a:off x="4732200" y="4038480"/>
            <a:ext cx="4411800" cy="1444680"/>
            <a:chOff x="4732200" y="4038480"/>
            <a:chExt cx="4411800" cy="1444680"/>
          </a:xfrm>
        </p:grpSpPr>
        <p:pic>
          <p:nvPicPr>
            <p:cNvPr id="194" name="Picture 15" descr=""/>
            <p:cNvPicPr/>
            <p:nvPr/>
          </p:nvPicPr>
          <p:blipFill>
            <a:blip r:embed="rId6"/>
            <a:srcRect l="0" t="49848" r="0" b="0"/>
            <a:stretch/>
          </p:blipFill>
          <p:spPr>
            <a:xfrm>
              <a:off x="6913440" y="4038480"/>
              <a:ext cx="223056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"/>
            <p:cNvPicPr/>
            <p:nvPr/>
          </p:nvPicPr>
          <p:blipFill>
            <a:blip r:embed="rId7"/>
            <a:srcRect l="0" t="0" r="0" b="49339"/>
            <a:stretch/>
          </p:blipFill>
          <p:spPr>
            <a:xfrm>
              <a:off x="4732200" y="4116240"/>
              <a:ext cx="2203560" cy="13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ing for Unearned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arned Revenue is a liability – it occurs when you are paid in advance of providing a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accounting department puts advance payments into Revenue, this is an error that needs to be correct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Revenue (to reduce it); CR Unearned Revenue (to increas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ook at the adjusting entries for four mai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id Expen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rriving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arned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The Adjust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092240" y="508968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#1: Supp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219320" y="982800"/>
            <a:ext cx="7313400" cy="587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5002200" y="3335400"/>
            <a:ext cx="41418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Supplies balance shows the total supplies purchased in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Bal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570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4"/>
          <p:cNvGrpSpPr/>
          <p:nvPr/>
        </p:nvGrpSpPr>
        <p:grpSpPr>
          <a:xfrm>
            <a:off x="4800600" y="3962520"/>
            <a:ext cx="3394080" cy="1076040"/>
            <a:chOff x="4800600" y="3962520"/>
            <a:chExt cx="3394080" cy="1076040"/>
          </a:xfrm>
        </p:grpSpPr>
        <p:sp>
          <p:nvSpPr>
            <p:cNvPr id="65" name="Rectangle 5"/>
            <p:cNvSpPr/>
            <p:nvPr/>
          </p:nvSpPr>
          <p:spPr>
            <a:xfrm>
              <a:off x="5686560" y="3962520"/>
              <a:ext cx="25081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What the balance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4800600" y="4025520"/>
              <a:ext cx="914400" cy="25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The Balance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570560" cy="31334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5029200" y="3200400"/>
            <a:ext cx="3648240" cy="1076400"/>
            <a:chOff x="5029200" y="3200400"/>
            <a:chExt cx="3648240" cy="1076400"/>
          </a:xfrm>
        </p:grpSpPr>
        <p:sp>
          <p:nvSpPr>
            <p:cNvPr id="70" name="Rectangle 5"/>
            <p:cNvSpPr/>
            <p:nvPr/>
          </p:nvSpPr>
          <p:spPr>
            <a:xfrm>
              <a:off x="5915160" y="3200400"/>
              <a:ext cx="276228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What the balance should b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029200" y="328140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Rectangle 7"/>
          <p:cNvSpPr/>
          <p:nvPr/>
        </p:nvSpPr>
        <p:spPr>
          <a:xfrm>
            <a:off x="1092240" y="4792680"/>
            <a:ext cx="7807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hat the balance “should be” is determined from someone counting the supplies that remain in the business at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570200" cy="31334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4648320" y="4267080"/>
            <a:ext cx="3405240" cy="2079360"/>
            <a:chOff x="4648320" y="4267080"/>
            <a:chExt cx="3405240" cy="2079360"/>
          </a:xfrm>
        </p:grpSpPr>
        <p:sp>
          <p:nvSpPr>
            <p:cNvPr id="76" name="Rectangle 5"/>
            <p:cNvSpPr/>
            <p:nvPr/>
          </p:nvSpPr>
          <p:spPr>
            <a:xfrm>
              <a:off x="4648320" y="5184720"/>
              <a:ext cx="340524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The required adju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6" descr=""/>
            <p:cNvPicPr/>
            <p:nvPr/>
          </p:nvPicPr>
          <p:blipFill>
            <a:blip r:embed="rId2"/>
            <a:srcRect l="0" t="-34700" r="0" b="46884"/>
            <a:stretch/>
          </p:blipFill>
          <p:spPr>
            <a:xfrm rot="16200000">
              <a:off x="5183280" y="4485960"/>
              <a:ext cx="91440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New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0370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4952880" y="2590920"/>
            <a:ext cx="3394080" cy="1076040"/>
            <a:chOff x="4952880" y="2590920"/>
            <a:chExt cx="3394080" cy="1076040"/>
          </a:xfrm>
        </p:grpSpPr>
        <p:sp>
          <p:nvSpPr>
            <p:cNvPr id="81" name="Rectangle 5"/>
            <p:cNvSpPr/>
            <p:nvPr/>
          </p:nvSpPr>
          <p:spPr>
            <a:xfrm>
              <a:off x="5838840" y="2590920"/>
              <a:ext cx="25081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What the balance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4952880" y="2653920"/>
              <a:ext cx="914400" cy="25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Rectangle 7"/>
          <p:cNvSpPr/>
          <p:nvPr/>
        </p:nvSpPr>
        <p:spPr>
          <a:xfrm>
            <a:off x="1066680" y="4495680"/>
            <a:ext cx="780732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income statement account related to Supplies is shown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66680" y="5486400"/>
            <a:ext cx="78073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accounting clerk has not used this account during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19:05:36Z</dcterms:created>
  <dc:creator>Jarrod Ruston</dc:creator>
  <dc:description/>
  <dc:language>en-US</dc:language>
  <cp:lastModifiedBy>Cameron Stott</cp:lastModifiedBy>
  <dcterms:modified xsi:type="dcterms:W3CDTF">2016-04-26T17:59:06Z</dcterms:modified>
  <cp:revision>57</cp:revision>
  <dc:subject/>
  <dc:title>BAF3M Accounting</dc:title>
</cp:coreProperties>
</file>